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22B-ABE8-402D-B1EE-0D266641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D36-D63C-4252-A79D-F0816F02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368-C5DB-4876-884F-8769859E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5A9-BA39-424B-88C6-1640D4B2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3C7-DA69-4787-B6FE-97820795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F4F-3682-4403-A76F-E42B013D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90C-1DB6-4D97-9522-8B8658E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25D-7749-4C37-8C05-314B9728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9AD9-88C2-402E-B23C-A61CDE3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E62-F3EB-4B3F-85F6-536F13C4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92E-291A-4760-B299-5E2848C6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5E1-009A-4E2A-91D7-76B737F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EAAC-6326-4C90-8826-7381138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C3B-6B65-47EF-BBE9-E468217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C0A5-814E-48C7-A607-2B2AE17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637-9ED9-4CE6-A633-4F3DC70D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3FF1-E1A5-4ED9-8CED-9E40F803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47A6-4923-4F5C-B8F3-5145108A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B106-6A89-4ACC-B994-65EBF5B8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F6ED-B3F3-46B9-B002-AD331C7D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8344-3931-4D40-9BD1-2FB749FF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D755-409F-4F99-BB09-201E24E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50D-488B-42EB-AFD1-AFADB07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4E8F-E39F-45B0-A686-52DA9955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0D58-0B68-4EA1-9AEB-F64C5AD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C69F-F815-439C-A6C8-0DDC719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1A3B-F617-4439-83B7-98FF4C4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6A44-673F-4916-8C3C-A67B520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D809-A9B1-4598-9F00-C43E957F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A736-68B7-4EEA-813F-F0107A79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B967-A325-42B2-B189-8D668B02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8C72-3704-4C1F-B467-D0785D8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CC17-2FF9-4716-8FDD-2BD81FC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A6E-4B19-413B-B580-2C2AD8AB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DADB-C2C8-400B-AFB5-FBF6709F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A374-25FA-44EF-9B3E-DA1B24F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BA0A-21F9-4A97-9903-CB17121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711B-5E74-41F5-AADB-ED1866C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F24C-E402-4828-A9D6-A6312F5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641FB-1876-4D6E-955D-ACD28C3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4DBB-07BD-4C9A-A558-3987FF0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C3EF-58B8-4ED2-B5B4-8E7B4FC4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7DB3-686B-4ED1-9F8E-8E4FEB38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4480-E156-47DC-93FD-4A5C5A97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9FE-73FE-40F5-95D8-207BF6A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969E2-8895-42A8-B266-23B5E97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5AFF-C2ED-49AC-B9A1-A337DCB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ABDCF-21FF-45BC-9077-EBCF104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3C45-66FB-443A-AB9F-8428BEB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74EAC-5088-4FA7-AE5D-C9AC5F5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4618-190F-4AE1-A3A6-009C557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294C-D80E-41E9-BCD5-EE2DBAB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E2D5-F9A6-4258-BAAF-5DF85C3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EC421-FF28-4C2D-A9AB-F08612C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FB3B-5978-4BA7-89F2-72588B96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46080" y="365040"/>
            <a:ext cx="72691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784-64F4-4755-BFED-5D639B2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2588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06040" y="182844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460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2588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06040" y="4101480"/>
            <a:ext cx="2075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A11D-C86A-4C03-87F0-CE2F0305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832-5D0B-4623-899B-6DCF278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49800" y="410148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53B-A209-471F-9A95-E7B9BAB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608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49800" y="1828440"/>
            <a:ext cx="31460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6080" y="4101480"/>
            <a:ext cx="644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B9E-FE28-43F6-A2AE-6DAC47C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9A0-A14B-4A61-BC2D-B244108D9444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21CD-1F37-4E76-9B8D-E4C7D293715D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34308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D4B3-2C72-4CD6-8E77-812E995B370D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846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EDD4-1087-41CE-BDF3-1B2D0A7ABF9A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8418600" y="0"/>
            <a:ext cx="73188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7831080" y="1044720"/>
            <a:ext cx="190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 rot="16200000">
            <a:off x="6992640" y="4092480"/>
            <a:ext cx="3581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440200" y="6171840"/>
            <a:ext cx="685800" cy="5936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508-D94B-4741-BF3D-5DC614133DEE}" type="slidenum">
              <a:rPr b="0" lang="en-US" sz="32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Schoolbook"/>
              </a:rPr>
              <a:t>Cellular Respiration</a:t>
            </a:r>
            <a:endParaRPr b="0" lang="en-US" sz="8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06520" y="44953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Century Schoolbook"/>
              </a:rPr>
              <a:t>Objective 18: Analyze photosynthesis and cellular respiration in terms of how energy is stored, released, and transferred within and between these system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6200640" y="0"/>
            <a:ext cx="2943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513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Step 3: Electron Transport Phosphorylation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mitochondria; uses the high energy electrons captured in the Krebs Cycle (in NADH and FAD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) to form ATP and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Every time 2 high-energy electrons go down the electron transport chain, their energy is used to transport H</a:t>
            </a:r>
            <a:r>
              <a:rPr b="0" lang="en-US" sz="32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 ions across the inner membrane of a mitochondrian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d6d3cc"/>
                </a:solidFill>
                <a:uFillTx/>
                <a:latin typeface="Century Schoolbook"/>
              </a:rPr>
              <a:t>Step 3: Electron Transport Phosphorylation:</a:t>
            </a:r>
            <a:br>
              <a:rPr sz="2900"/>
            </a:br>
            <a:r>
              <a:rPr b="1" lang="en-US" sz="2900" spc="-1" strike="noStrike">
                <a:solidFill>
                  <a:srgbClr val="d6d3cc"/>
                </a:solidFill>
                <a:latin typeface="Century Schoolbook"/>
              </a:rPr>
              <a:t>                            </a:t>
            </a:r>
            <a:r>
              <a:rPr b="1" lang="en-US" sz="2900" spc="-1" strike="noStrike" u="sng">
                <a:solidFill>
                  <a:srgbClr val="d6d3cc"/>
                </a:solidFill>
                <a:uFillTx/>
                <a:latin typeface="Century Schoolbook"/>
              </a:rPr>
              <a:t>(continued)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30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 ions build up in the inner membrane space setting up a concentration and an electrical gradient.  As H</a:t>
            </a:r>
            <a:r>
              <a:rPr b="0" lang="en-US" sz="3000" spc="-1" strike="noStrike" baseline="30000">
                <a:solidFill>
                  <a:srgbClr val="262626"/>
                </a:solidFill>
                <a:latin typeface="Century Schoolbook"/>
              </a:rPr>
              <a:t>+</a:t>
            </a: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 ions rush back through the membrane, enough energy is created to cause ADP to combine with P to form ATP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This step produces 32 ATP for a net yield of 36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Schoolbook"/>
              </a:rPr>
              <a:t>Water is also produced as a product</a:t>
            </a:r>
            <a:endParaRPr b="0" lang="en-US" sz="30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1680" y="19080"/>
            <a:ext cx="8907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7440" y="231840"/>
            <a:ext cx="711828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erobic Respiration Flowchar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7010280" y="2389320"/>
            <a:ext cx="1752840" cy="2334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d3cc"/>
                </a:solidFill>
                <a:latin typeface="Century Schoolbook"/>
              </a:rPr>
              <a:t>Aerobic Respiration Summa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Picture 4" descr="0703"/>
          <p:cNvPicPr/>
          <p:nvPr/>
        </p:nvPicPr>
        <p:blipFill>
          <a:blip r:embed="rId1"/>
          <a:stretch/>
        </p:blipFill>
        <p:spPr>
          <a:xfrm>
            <a:off x="990720" y="762120"/>
            <a:ext cx="67816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n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ccurs in the absence of oxyg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ields only 2 AT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ppens in cytoplas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first step is glycolysis.  The pyruvate is converted to ethanol or lactic aci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1" name="Picture 4" descr="0710"/>
          <p:cNvPicPr/>
          <p:nvPr/>
        </p:nvPicPr>
        <p:blipFill>
          <a:blip r:embed="rId5"/>
          <a:stretch/>
        </p:blipFill>
        <p:spPr>
          <a:xfrm>
            <a:off x="2666880" y="3909960"/>
            <a:ext cx="28195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ye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1: Glycoly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Glucose is converted to pyruvate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et 2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2: Ethanol Form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yruvate is converted to ethanol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  <p:pic>
        <p:nvPicPr>
          <p:cNvPr id="274" name="Picture 4" descr="0710"/>
          <p:cNvPicPr/>
          <p:nvPr/>
        </p:nvPicPr>
        <p:blipFill>
          <a:blip r:embed="rId1"/>
          <a:stretch/>
        </p:blipFill>
        <p:spPr>
          <a:xfrm>
            <a:off x="3730680" y="1447920"/>
            <a:ext cx="50054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Lactic Acid Fermen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ccurs in bacteria and animal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1: Glycolysi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Glucose is converted to pyruvate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et 2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ep 2: Lactate form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yruvate is converted to lactic acid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3179880" y="1600200"/>
          <a:ext cx="5964120" cy="4470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8" name="Object 4" descr="07CO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9880" y="1600200"/>
                    <a:ext cx="59641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95959"/>
                </a:solidFill>
                <a:latin typeface="Century Schoolbook"/>
              </a:rPr>
              <a:t>Cellular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within </a:t>
            </a:r>
            <a:r>
              <a:rPr b="0" lang="en-US" sz="1800" spc="-1" strike="noStrike">
                <a:solidFill>
                  <a:srgbClr val="c00000"/>
                </a:solidFill>
                <a:latin typeface="Century Schoolbook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living cell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hemical bonds are broken in glucose releasing energy (ATP) to be used by ce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0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 Respiration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C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1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+ 6 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6 CO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 + 6 H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 + energy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oxygen needed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Yields 36 ATP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entury Schoolbook"/>
              </a:rPr>
              <a:t>Starts in cytoplasm and ends in mitochondria</a:t>
            </a: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hotosynthesis to Cell Resp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4591080" cy="48736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5720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oducts of photosynthesis are the reactants of cellular respiratio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Mitochondri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1" name="Picture 6" descr="mitochondria"/>
          <p:cNvPicPr/>
          <p:nvPr/>
        </p:nvPicPr>
        <p:blipFill>
          <a:blip r:embed="rId1"/>
          <a:stretch/>
        </p:blipFill>
        <p:spPr>
          <a:xfrm>
            <a:off x="2265480" y="2055960"/>
            <a:ext cx="3809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46080" y="365040"/>
            <a:ext cx="72691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ypes of Cellular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46080" y="1828440"/>
            <a:ext cx="644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With oxygen”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Uses oxygen to produce ATP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roduces more ATP than anaerobic respiration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entury Schoolbook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Without oxygen”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Produces ATP in the absence of oxygen 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Not as efficient as aerobic respiration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Century Schoolbook"/>
              </a:rPr>
              <a:t>Alcoholic fermentation </a:t>
            </a: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yeast converts glucose into CO2 and ethanol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entury Schoolbook"/>
              </a:rPr>
              <a:t>Lactic acid fermentation</a:t>
            </a:r>
            <a:r>
              <a:rPr b="0" lang="en-US" sz="16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262626"/>
                </a:solidFill>
                <a:latin typeface="Century Schoolbook"/>
              </a:rPr>
              <a:t> occurs in muscle cells when oxygen is not available and produced CO2 and lactic acid</a:t>
            </a: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7440" y="231840"/>
            <a:ext cx="711828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erobic Respiration Flowchar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7010280" y="2389320"/>
            <a:ext cx="1752840" cy="2334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Century Schoolbook"/>
              </a:rPr>
              <a:t>Step 1: Glycolysi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Occurs in the cytoplasm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Glucose (C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H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12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O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6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) is split into two molecules of pyruvic acid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Yields 2 ATP molecules and 2 NADH (another energy molecule)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2127240" y="406440"/>
            <a:ext cx="488952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d3cc"/>
                </a:solidFill>
                <a:latin typeface="Century Schoolbook"/>
              </a:rPr>
              <a:t>Aerobic Respi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Step 2: Krebs Cyc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ccurs in matrix of the mitochondria; pyruvic acid is converted to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2 NADH (energy molecules), 2ATP, and 2 FADH</a:t>
            </a:r>
            <a:r>
              <a:rPr b="0" lang="en-US" sz="3200" spc="-1" strike="noStrike" baseline="-25000">
                <a:solidFill>
                  <a:srgbClr val="262626"/>
                </a:solidFill>
                <a:latin typeface="Century Schoolbook"/>
              </a:rPr>
              <a:t>2 </a:t>
            </a:r>
            <a:r>
              <a:rPr b="0" lang="en-US" sz="3200" spc="-1" strike="noStrike">
                <a:solidFill>
                  <a:srgbClr val="262626"/>
                </a:solidFill>
                <a:latin typeface="Century Schoolbook"/>
              </a:rPr>
              <a:t>(energy molecules) are also formed</a:t>
            </a: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lvl="1" marL="457200" indent="-182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9:04:12Z</dcterms:created>
  <dc:creator>Zebulon Holsopple</dc:creator>
  <dc:description/>
  <cp:keywords/>
  <dc:language>en-US</dc:language>
  <cp:lastModifiedBy>Geneva Jost</cp:lastModifiedBy>
  <dcterms:modified xsi:type="dcterms:W3CDTF">2017-05-08T11:16:37Z</dcterms:modified>
  <cp:revision>18</cp:revision>
  <dc:subject>Biology Honors</dc:subject>
  <dc:title>4.2.1_Notes_CellularRespiration</dc:title>
</cp:coreProperties>
</file>